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977-8055-4676-8365-057DDF1F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906-00C1-4C6D-A385-A6A18ABC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207-DF16-49D0-82BF-7F0803B8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471-CC13-4DDF-8FAB-911DEC96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BC9-4A6A-40C1-8491-086FF05D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E9A-935A-4610-9F08-C9966495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3D8-3585-4105-9990-18299B9D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B32-D257-4BE0-AA42-3A62DDB9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1520"/>
            <a:ext cx="9261360" cy="14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A43-9CA3-45D9-BDA8-34367AB0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33E-C2CF-4BF0-BD06-D401C308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4AF-0987-4BD5-8C10-22192E5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DC6-06C6-4B5A-A0DD-1D68223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4B9C-10FC-4088-BC5D-117E9457D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1"/>
          <p:cNvSpPr/>
          <p:nvPr/>
        </p:nvSpPr>
        <p:spPr>
          <a:xfrm>
            <a:off x="2951280" y="5313240"/>
            <a:ext cx="4370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2"/>
          <p:cNvSpPr/>
          <p:nvPr/>
        </p:nvSpPr>
        <p:spPr>
          <a:xfrm>
            <a:off x="2841840" y="7153200"/>
            <a:ext cx="460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"/>
          <p:cNvSpPr/>
          <p:nvPr/>
        </p:nvSpPr>
        <p:spPr>
          <a:xfrm>
            <a:off x="4874040" y="1096956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3" descr=""/>
          <p:cNvPicPr/>
          <p:nvPr/>
        </p:nvPicPr>
        <p:blipFill>
          <a:blip r:embed="rId1"/>
          <a:stretch/>
        </p:blipFill>
        <p:spPr>
          <a:xfrm>
            <a:off x="144360" y="1709640"/>
            <a:ext cx="10114200" cy="1833840"/>
          </a:xfrm>
          <a:prstGeom prst="rect">
            <a:avLst/>
          </a:prstGeom>
          <a:ln w="0">
            <a:noFill/>
          </a:ln>
        </p:spPr>
      </p:pic>
      <p:sp>
        <p:nvSpPr>
          <p:cNvPr id="4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3522960" y="1713384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5:24Z</dcterms:modified>
  <cp:revision>48</cp:revision>
  <dc:subject/>
  <dc:title>スライド 1</dc:title>
</cp:coreProperties>
</file>